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907588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7680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914040" y="4267080"/>
            <a:ext cx="5002200" cy="4678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ldImg"/>
          </p:nvPr>
        </p:nvSpPr>
        <p:spPr>
          <a:xfrm>
            <a:off x="882360" y="479520"/>
            <a:ext cx="500364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Univers 45 Light"/>
              </a:rPr>
              <a:t>Click to move the slide</a:t>
            </a: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hdr"/>
          </p:nvPr>
        </p:nvSpPr>
        <p:spPr>
          <a:xfrm>
            <a:off x="3047760" y="-360"/>
            <a:ext cx="2901960" cy="685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85840" indent="0" algn="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1" i="1" lang="en-GB" sz="9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r>
              <a:rPr b="1" i="1" lang="en-GB" sz="900" spc="-1" strike="noStrike">
                <a:solidFill>
                  <a:srgbClr val="000000"/>
                </a:solidFill>
                <a:latin typeface="Times New Roman"/>
              </a:rPr>
              <a:t>Lecture gui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 algn="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Times New Roman"/>
              </a:rPr>
              <a:t>IAS 32 &amp; IAS 3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 algn="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Times New Roman"/>
              </a:rPr>
              <a:t>Financial Instrumen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76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76640" y="9371160"/>
            <a:ext cx="2106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marL="285840" indent="-285840" algn="ct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dt" idx="5"/>
          </p:nvPr>
        </p:nvSpPr>
        <p:spPr>
          <a:xfrm>
            <a:off x="685440" y="937584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85840" indent="0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85840" indent="0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January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2286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PMG Logo"/>
              </a:rPr>
              <a:t>kpmg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76640" y="9371160"/>
            <a:ext cx="2106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marL="285840" indent="-285840" algn="ct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fld id="{0BAA20CD-43EB-438B-BB54-45B3F4BE25CA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05320" y="9645480"/>
            <a:ext cx="266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yright © 2001 KPMG International, a Swiss association. All rights reserved.</a:t>
            </a:r>
            <a:r>
              <a:rPr b="0" lang="en-GB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882720" y="479520"/>
            <a:ext cx="5003640" cy="346392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040" y="4267080"/>
            <a:ext cx="5002200" cy="4678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br>
              <a:rPr sz="1100"/>
            </a:b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Note that for current IAS companies: Cannot state that they report under IAS unless all standards and interpretations are follow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Implementat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--at beginning of financial year in which IAS 39 is adop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--no restatement of earlier year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--transition adjustments are to beginning retained earning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No retrospective changes may be made t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--”redesignate” hedg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--transactions not meeting this criteria under IAS 39 for derecognition are only affected prospectivel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IAS:</a:t>
            </a:r>
            <a:br>
              <a:rPr sz="1100"/>
            </a:b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IAS 39.17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FIA:</a:t>
            </a:r>
            <a:br>
              <a:rPr sz="1100"/>
            </a:b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Chapter 11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882720" y="479520"/>
            <a:ext cx="5003640" cy="34639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040" y="4267080"/>
            <a:ext cx="5002200" cy="467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882720" y="479520"/>
            <a:ext cx="5003640" cy="34639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040" y="4267080"/>
            <a:ext cx="5002200" cy="4678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FIA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Chapter 11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14400" y="457200"/>
            <a:ext cx="5003640" cy="34639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040" y="4267080"/>
            <a:ext cx="5002200" cy="4678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882720" y="479520"/>
            <a:ext cx="5003640" cy="346392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040" y="4267080"/>
            <a:ext cx="5002200" cy="4678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FIA:</a:t>
            </a:r>
            <a:br>
              <a:rPr sz="1100"/>
            </a:b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Chapter 11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882720" y="479520"/>
            <a:ext cx="5003640" cy="346392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040" y="4267080"/>
            <a:ext cx="5002200" cy="467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Dedicated resources are key to an organised implementation project. The implementation team can devote the time to identifying the enterprise’s issues, and determine whether outside assistance is necessary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 process for communication should be set u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Times New Roman"/>
              <a:buChar char="•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Internal parti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Times New Roman"/>
              <a:buChar char="•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enior manage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Times New Roman"/>
              <a:buChar char="•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External parties – analysts, major investors, lenders want to know the impact of IAS 39 on the enterprise’s bottom line. Internal and external auditors will also focus heavily on implementa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882720" y="479520"/>
            <a:ext cx="5003640" cy="346392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040" y="4267080"/>
            <a:ext cx="5002200" cy="467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br>
              <a:rPr sz="1100"/>
            </a:b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Implementation team identifies the key issues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This will involve reviewing current practices of the enterprise, and anticipated new transactions/activiti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882720" y="479520"/>
            <a:ext cx="5003640" cy="346392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040" y="4267080"/>
            <a:ext cx="5002200" cy="467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882720" y="479520"/>
            <a:ext cx="5003640" cy="346392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040" y="4267080"/>
            <a:ext cx="5002200" cy="467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822780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9520" y="3581280"/>
            <a:ext cx="822780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55840" y="158112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9520" y="358128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55840" y="358128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264924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21600" y="1581120"/>
            <a:ext cx="264924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3680" y="1581120"/>
            <a:ext cx="264924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9520" y="3581280"/>
            <a:ext cx="264924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21600" y="3581280"/>
            <a:ext cx="264924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3680" y="3581280"/>
            <a:ext cx="264924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CADF-75AC-4A92-8573-D5DA4BAE9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9520" y="1581120"/>
            <a:ext cx="8227800" cy="38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40CE-D41C-4C82-A984-4BCEAE7F6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8227800" cy="382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AF2D-35B7-4058-9459-93818CAAE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4015080" cy="382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55840" y="1581120"/>
            <a:ext cx="4015080" cy="382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505B-5F9C-4A54-890C-BDB15AB86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B39E-55CF-43AE-B5B9-0CB1711BC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38080" y="672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9EBD-A69A-48AF-9966-C2907775B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55840" y="1581120"/>
            <a:ext cx="4015080" cy="382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9520" y="358128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D31E-D1E9-4234-99CD-2DA8D62A0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9520" y="1581120"/>
            <a:ext cx="8227800" cy="38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4015080" cy="382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55840" y="158112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55840" y="358128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6785-FDB9-4EBD-AA0C-F512812E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55840" y="158112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9520" y="3581280"/>
            <a:ext cx="822780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9DBF-EE94-4F73-997A-5B540C1BE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822780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9520" y="3581280"/>
            <a:ext cx="822780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B14F-2A30-44CC-8AB0-531DE6F92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55840" y="158112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9520" y="358128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55840" y="358128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5668-7535-4403-AF4D-E9AFB9E65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264924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21600" y="1581120"/>
            <a:ext cx="264924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403680" y="1581120"/>
            <a:ext cx="264924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9520" y="3581280"/>
            <a:ext cx="264924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621600" y="3581280"/>
            <a:ext cx="264924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403680" y="3581280"/>
            <a:ext cx="264924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4E21-D6B6-4797-A331-C5EA6E30C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8227800" cy="382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4015080" cy="382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55840" y="1581120"/>
            <a:ext cx="4015080" cy="382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8080" y="672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55840" y="1581120"/>
            <a:ext cx="4015080" cy="382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9520" y="358128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4015080" cy="382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5840" y="158112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55840" y="358128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5840" y="158112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9520" y="3581280"/>
            <a:ext cx="822780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Univers 45 Light"/>
              </a:rPr>
              <a:t>Click to edit the title text format</a:t>
            </a: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9520" y="1581120"/>
            <a:ext cx="8227800" cy="382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1" marL="650880" indent="-20628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2" marL="922320" indent="-1573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3" marL="1262160" indent="-22536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4" marL="1601640" indent="-22536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5" marL="1601640" indent="-225360">
              <a:lnSpc>
                <a:spcPct val="90000"/>
              </a:lnSpc>
              <a:spcBef>
                <a:spcPts val="1375"/>
              </a:spcBef>
              <a:buClr>
                <a:srgbClr val="0000ff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6" marL="1601640" indent="-225360">
              <a:lnSpc>
                <a:spcPct val="90000"/>
              </a:lnSpc>
              <a:spcBef>
                <a:spcPts val="1375"/>
              </a:spcBef>
              <a:buClr>
                <a:srgbClr val="0000ff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43332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85840"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1" lang="en-US" sz="1400" spc="-1" strike="noStrike">
                <a:solidFill>
                  <a:srgbClr val="ffff00"/>
                </a:solidFill>
                <a:latin typeface="Univers 45 Light"/>
              </a:defRPr>
            </a:lvl1pPr>
          </a:lstStyle>
          <a:p>
            <a:pPr marL="285840"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Univers 45 Light"/>
              </a:rPr>
              <a:t>&lt;footer&gt;</a:t>
            </a:r>
            <a:r>
              <a:rPr b="1" lang="en-US" sz="1400" spc="-1" strike="noStrike">
                <a:solidFill>
                  <a:srgbClr val="ffff00"/>
                </a:solidFill>
                <a:latin typeface="Univers 45 Light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Univers 45 Light"/>
              </a:rPr>
              <a:t>IAS 3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228600" y="6324480"/>
          <a:ext cx="2743200" cy="357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6324480"/>
                    <a:ext cx="2743200" cy="3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" name=""/>
          <p:cNvGraphicFramePr/>
          <p:nvPr/>
        </p:nvGraphicFramePr>
        <p:xfrm>
          <a:off x="6481800" y="6300720"/>
          <a:ext cx="3200400" cy="381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481800" y="6300720"/>
                    <a:ext cx="320040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560" y="6188040"/>
            <a:ext cx="800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KPMG Logo"/>
              </a:rPr>
              <a:t>kpmg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1760" y="1375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Univers 45 Light"/>
              </a:rPr>
              <a:t>Click to edit the title text format</a:t>
            </a: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7617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3"/>
          </p:nvPr>
        </p:nvSpPr>
        <p:spPr>
          <a:xfrm>
            <a:off x="70862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85840"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1" lang="en-US" sz="1400" spc="-1" strike="noStrike">
                <a:solidFill>
                  <a:srgbClr val="ffff00"/>
                </a:solidFill>
                <a:latin typeface="Univers 45 Light"/>
              </a:defRPr>
            </a:lvl1pPr>
          </a:lstStyle>
          <a:p>
            <a:pPr marL="285840"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9DE49E3-4460-40FE-A895-345012C7A52A}" type="slidenum">
              <a:rPr b="1" lang="en-US" sz="1400" spc="-1" strike="noStrike">
                <a:solidFill>
                  <a:srgbClr val="ffff00"/>
                </a:solidFill>
                <a:latin typeface="Univers 45 Ligh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85840"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1" lang="en-US" sz="1400" spc="-1" strike="noStrike">
                <a:solidFill>
                  <a:srgbClr val="ffff00"/>
                </a:solidFill>
                <a:latin typeface="Univers 45 Light"/>
              </a:defRPr>
            </a:lvl1pPr>
          </a:lstStyle>
          <a:p>
            <a:pPr marL="285840"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Univers 45 Ligh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238880" y="6673680"/>
            <a:ext cx="2667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pyright © 2001 KPMG International, a Swiss association. All rights reserved.</a:t>
            </a:r>
            <a:r>
              <a:rPr b="0" lang="en-GB" sz="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Univers 45 Light"/>
              </a:rPr>
              <a:t>Transition rules</a:t>
            </a: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320"/>
            <a:ext cx="990432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9520" y="1580760"/>
            <a:ext cx="8227800" cy="421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Univers 45 Light"/>
              </a:rPr>
              <a:t>No restatement of prior periods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Univers 45 Light"/>
              </a:rPr>
              <a:t>If prior to IAS 39 there is no hedge relationship: cannot retrospectively designate as hedges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Univers 45 Light"/>
              </a:rPr>
              <a:t>If prior to IAS 39 there is a hedge relationship: provisions of Standard should be applied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Univers 45 Light"/>
              </a:rPr>
              <a:t>Upon adoption: all derivatives are capitalised at fair value, and other financial instruments measured at fair value or at cost depending on classification 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Univers 45 Light"/>
              </a:rPr>
              <a:t>Difference of remeasurement are recorded as adjustment of beginning retained earnings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Univers 45 Light"/>
              </a:rPr>
              <a:t>IAS 39 implementation: </a:t>
            </a:r>
            <a:br>
              <a:rPr sz="2600"/>
            </a:br>
            <a:r>
              <a:rPr b="0" i="1" lang="en-US" sz="2600" spc="-1" strike="noStrike">
                <a:solidFill>
                  <a:srgbClr val="003399"/>
                </a:solidFill>
                <a:latin typeface="Univers 45 Light"/>
              </a:rPr>
              <a:t>Finally…</a:t>
            </a: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31840" y="1747800"/>
            <a:ext cx="7639200" cy="29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Univers 45 Light"/>
              </a:rPr>
              <a:t>Implement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Univers 55"/>
              </a:rPr>
              <a:t>Business process and accounting policy changes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Univers 55"/>
              </a:rPr>
              <a:t>IT changes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Univers 45 Light"/>
              </a:rPr>
              <a:t>Structured rollout including training (as necessary)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Univers 45 Light"/>
              </a:rPr>
              <a:t>User acceptance testing of changes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Univers 45 Light"/>
              </a:rPr>
              <a:t>Accounting transition adjustments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Univers 55"/>
              </a:rPr>
              <a:t>Record all FI on balance sheet 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Univers 55"/>
              </a:rPr>
              <a:t>Re</a:t>
            </a:r>
            <a:r>
              <a:rPr b="0" lang="tr-TR" sz="2000" spc="-1" strike="noStrike">
                <a:solidFill>
                  <a:srgbClr val="000000"/>
                </a:solidFill>
                <a:latin typeface="Univers 55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Univers 55"/>
              </a:rPr>
              <a:t>measure applicable FI to fair value 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5484960" y="2719440"/>
            <a:ext cx="1852560" cy="8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Univers 45 Light"/>
              </a:rPr>
              <a:t>Produce IT specifications for workarounds and system enhancements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Univers 45 Light"/>
              </a:rPr>
              <a:t>Specification of BP changes </a:t>
            </a:r>
            <a:r>
              <a:rPr b="0" lang="nl-NL" sz="900" spc="-1" strike="noStrike">
                <a:solidFill>
                  <a:srgbClr val="000000"/>
                </a:solidFill>
                <a:latin typeface="Univers 45 Light"/>
              </a:rPr>
              <a:t>(</a:t>
            </a:r>
            <a:r>
              <a:rPr b="0" lang="en-GB" sz="900" spc="-1" strike="noStrike">
                <a:solidFill>
                  <a:srgbClr val="000000"/>
                </a:solidFill>
                <a:latin typeface="Univers 45 Light"/>
              </a:rPr>
              <a:t>e.g. new procedures)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985160" y="1600200"/>
            <a:ext cx="1450800" cy="106992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89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1440" y="1703520"/>
            <a:ext cx="2235240" cy="927000"/>
          </a:xfrm>
          <a:custGeom>
            <a:avLst/>
            <a:gdLst>
              <a:gd name="textAreaLeft" fmla="*/ 0 w 2235240"/>
              <a:gd name="textAreaRight" fmla="*/ 2235240 w 2235240"/>
              <a:gd name="textAreaTop" fmla="*/ 0 h 927000"/>
              <a:gd name="textAreaBottom" fmla="*/ 927360 h 927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198" y="0"/>
                </a:lnTo>
                <a:lnTo>
                  <a:pt x="21600" y="10800"/>
                </a:lnTo>
                <a:lnTo>
                  <a:pt x="1619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a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3241800" y="1703520"/>
            <a:ext cx="2496960" cy="928440"/>
            <a:chOff x="3241800" y="1703520"/>
            <a:chExt cx="2496960" cy="928440"/>
          </a:xfrm>
        </p:grpSpPr>
        <p:sp>
          <p:nvSpPr>
            <p:cNvPr id="126" name=""/>
            <p:cNvSpPr/>
            <p:nvPr/>
          </p:nvSpPr>
          <p:spPr>
            <a:xfrm>
              <a:off x="3241800" y="1703520"/>
              <a:ext cx="2496960" cy="928440"/>
            </a:xfrm>
            <a:custGeom>
              <a:avLst/>
              <a:gdLst/>
              <a:ahLst/>
              <a:rect l="l" t="t" r="r" b="b"/>
              <a:pathLst>
                <a:path w="1573" h="585">
                  <a:moveTo>
                    <a:pt x="1179" y="0"/>
                  </a:moveTo>
                  <a:lnTo>
                    <a:pt x="0" y="0"/>
                  </a:lnTo>
                  <a:lnTo>
                    <a:pt x="393" y="292"/>
                  </a:lnTo>
                  <a:lnTo>
                    <a:pt x="0" y="584"/>
                  </a:lnTo>
                  <a:lnTo>
                    <a:pt x="1179" y="584"/>
                  </a:lnTo>
                  <a:lnTo>
                    <a:pt x="1572" y="292"/>
                  </a:lnTo>
                  <a:lnTo>
                    <a:pt x="1179" y="0"/>
                  </a:lnTo>
                </a:path>
              </a:pathLst>
            </a:custGeom>
            <a:solidFill>
              <a:srgbClr val="789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333600" y="1749600"/>
              <a:ext cx="2022480" cy="83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5305320" y="1703520"/>
            <a:ext cx="2417760" cy="928440"/>
            <a:chOff x="5305320" y="1703520"/>
            <a:chExt cx="2417760" cy="928440"/>
          </a:xfrm>
        </p:grpSpPr>
        <p:sp>
          <p:nvSpPr>
            <p:cNvPr id="129" name=""/>
            <p:cNvSpPr/>
            <p:nvPr/>
          </p:nvSpPr>
          <p:spPr>
            <a:xfrm>
              <a:off x="5305320" y="1703520"/>
              <a:ext cx="2417760" cy="928440"/>
            </a:xfrm>
            <a:custGeom>
              <a:avLst/>
              <a:gdLst/>
              <a:ahLst/>
              <a:rect l="l" t="t" r="r" b="b"/>
              <a:pathLst>
                <a:path w="1523" h="585">
                  <a:moveTo>
                    <a:pt x="1141" y="0"/>
                  </a:moveTo>
                  <a:lnTo>
                    <a:pt x="0" y="0"/>
                  </a:lnTo>
                  <a:lnTo>
                    <a:pt x="380" y="292"/>
                  </a:lnTo>
                  <a:lnTo>
                    <a:pt x="0" y="584"/>
                  </a:lnTo>
                  <a:lnTo>
                    <a:pt x="1141" y="584"/>
                  </a:lnTo>
                  <a:lnTo>
                    <a:pt x="1522" y="292"/>
                  </a:lnTo>
                  <a:lnTo>
                    <a:pt x="1141" y="0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388120" y="1744560"/>
              <a:ext cx="196848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1420920" y="1763640"/>
            <a:ext cx="189864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 45 Light"/>
              </a:rPr>
              <a:t>Awareness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786120" y="1763640"/>
            <a:ext cx="164772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 45 Light"/>
              </a:rPr>
              <a:t>Understanding and Assessment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711760" y="1763640"/>
            <a:ext cx="172080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 45 Light"/>
              </a:rPr>
              <a:t>Design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826400" y="1844640"/>
            <a:ext cx="180972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Univers 45 Light"/>
              </a:rPr>
              <a:t>Implementation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840" y="1893960"/>
            <a:ext cx="1263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80000"/>
                </a:solidFill>
                <a:latin typeface="Univers 45 Light"/>
              </a:rPr>
              <a:t>Project Phases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9840" y="2719440"/>
            <a:ext cx="93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80000"/>
                </a:solidFill>
                <a:latin typeface="Univers 45 Light"/>
              </a:rPr>
              <a:t>Key Steps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8280" y="5133960"/>
            <a:ext cx="15033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80000"/>
                </a:solidFill>
                <a:latin typeface="Univers 45 Light"/>
              </a:rPr>
              <a:t>Deliverables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98680" y="5164200"/>
            <a:ext cx="15429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IAS 39  training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46120" y="2719440"/>
            <a:ext cx="155736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Conduct IAS 39 technical accounting workshops with potentially impacted business areas accounting and other interested parties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124080" y="2716200"/>
            <a:ext cx="221004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Resolve technical accounting questions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Analyse derivatives usage (including embedded)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Analyse financial assets and financial liabilities usage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Review current state of business processes (BP) and systems (IT)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Identify BP and IT “gaps” vs. requirements and alternatives to fill the gaps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Choose alternatives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Estimate P&amp;L impact 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24080" y="5105520"/>
            <a:ext cx="2286000" cy="18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Identification of impacted activities (inc. derivative inventory)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High-level BP and IT maps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Identification of gaps between current BP/IT vs. IAS 39 requirements, alternatives to fill the gap and agreed upon decisions on how to fill gaps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Quantified P&amp;L impact for both minimum  compliance and achievement of hedge accounting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42120" y="5164200"/>
            <a:ext cx="1876320" cy="5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IT specifications for each business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BP redesign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818480" y="5164200"/>
            <a:ext cx="20876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Accepted changes  to IT and BP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Compliance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826400" y="2752560"/>
            <a:ext cx="202572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BP changes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IT changes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Rollout and training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User acceptance testing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Univers 45 Light"/>
              </a:rPr>
              <a:t>Recommended IAS 39 Implementation Approach</a:t>
            </a: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600" spc="-1" strike="noStrike">
                <a:solidFill>
                  <a:srgbClr val="003399"/>
                </a:solidFill>
                <a:latin typeface="Univers 45 Light"/>
              </a:rPr>
              <a:t>Transition adjustments</a:t>
            </a: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9880" y="1600200"/>
          <a:ext cx="8227800" cy="4748040"/>
        </p:xfrm>
        <a:graphic>
          <a:graphicData uri="http://schemas.openxmlformats.org/drawingml/2006/table">
            <a:tbl>
              <a:tblPr/>
              <a:tblGrid>
                <a:gridCol w="2743200"/>
                <a:gridCol w="2741400"/>
                <a:gridCol w="2743200"/>
              </a:tblGrid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Transition adjustment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Subsequent accounting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83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Derivatives to be remeasured at fair value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Recognise adjustment in retained earnings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No later reversal necessary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108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Financial assets and liabilities remeasured at fair value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Recognise adjustment of previous carrying amount in retained earnings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When sold reversal possible for AFS (Q&amp;A 172-1)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182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Revaluation gain (IAS 25) in separate component if related to AFS with fair value changes in equity; otherwise in retained earnings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600" spc="-1" strike="noStrike">
                <a:solidFill>
                  <a:srgbClr val="003399"/>
                </a:solidFill>
                <a:latin typeface="Univers 45 Light"/>
              </a:rPr>
              <a:t>Transition adjustments - continued</a:t>
            </a: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838080" y="1359000"/>
          <a:ext cx="8227800" cy="4905360"/>
        </p:xfrm>
        <a:graphic>
          <a:graphicData uri="http://schemas.openxmlformats.org/drawingml/2006/table">
            <a:tbl>
              <a:tblPr/>
              <a:tblGrid>
                <a:gridCol w="2743200"/>
                <a:gridCol w="2741400"/>
                <a:gridCol w="2743200"/>
              </a:tblGrid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Transition adjustment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Subsequent accounting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Deferred gains and losses, now effective part of CFH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Recognise in separate component of equity (if expected to occur Q&amp;A 172-2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Treat in conformity with CFH model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13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Hedged items in FVH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Adjust balance sheet position to reflect fair value of hedging instrument (in retained earnings)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Apply FVH  model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Effective part of CFH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Not mentioned in IAS 39; include in separate component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To be reversed when hedged item recognised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Ineffective part of CFH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No guidance available; include in retained earnings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No guidance available: remains in equity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Univers 45 Light"/>
              </a:rPr>
              <a:t>Implementation process and organisation</a:t>
            </a: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8227800" cy="350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Structure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Univers 45 Light"/>
              </a:rPr>
              <a:t>Typical Implementation Structure</a:t>
            </a: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105" name=""/>
          <p:cNvSpPr/>
          <p:nvPr/>
        </p:nvSpPr>
        <p:spPr>
          <a:xfrm>
            <a:off x="3887640" y="1612800"/>
            <a:ext cx="2210040" cy="106704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nivers 45 Light"/>
              </a:rPr>
              <a:t>Steering Committee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87640" y="3073320"/>
            <a:ext cx="2210040" cy="1067040"/>
          </a:xfrm>
          <a:prstGeom prst="ellipse">
            <a:avLst/>
          </a:prstGeom>
          <a:solidFill>
            <a:srgbClr val="aa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nivers 45 Light"/>
              </a:rPr>
              <a:t>Working Committee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78440" y="4572000"/>
            <a:ext cx="182880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nivers 45 Light"/>
              </a:rPr>
              <a:t>Project Manager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057400" y="5689440"/>
            <a:ext cx="5870520" cy="6858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 45 Light"/>
              </a:rPr>
              <a:t>Implementation Team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8100000">
            <a:off x="4827240" y="5475240"/>
            <a:ext cx="330120" cy="331920"/>
          </a:xfrm>
          <a:prstGeom prst="rtTriangle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8100000">
            <a:off x="4827240" y="4332240"/>
            <a:ext cx="330120" cy="331920"/>
          </a:xfrm>
          <a:prstGeom prst="rtTriangl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8100000">
            <a:off x="4827240" y="2859120"/>
            <a:ext cx="330120" cy="331920"/>
          </a:xfrm>
          <a:prstGeom prst="rtTriangle">
            <a:avLst/>
          </a:prstGeom>
          <a:solidFill>
            <a:srgbClr val="aa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Univers 45 Light"/>
              </a:rPr>
              <a:t>IAS 39 implementation: </a:t>
            </a:r>
            <a:br>
              <a:rPr sz="2600"/>
            </a:br>
            <a:r>
              <a:rPr b="0" i="1" lang="en-US" sz="2600" spc="-1" strike="noStrike">
                <a:solidFill>
                  <a:srgbClr val="003399"/>
                </a:solidFill>
                <a:latin typeface="Univers 45 Light"/>
              </a:rPr>
              <a:t>Awareness</a:t>
            </a: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31840" y="1747800"/>
            <a:ext cx="7639200" cy="29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Identify implementation team(s) 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Team leader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Team members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Identify business areas that will be most impacted (accounting, treasury, other interested parties)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Hold workshops and training (run by technical accountants)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Univers 45 Light"/>
              </a:rPr>
              <a:t>IAS 39 implementation: </a:t>
            </a:r>
            <a:br>
              <a:rPr sz="2600"/>
            </a:br>
            <a:r>
              <a:rPr b="0" i="1" lang="en-US" sz="2600" spc="-1" strike="noStrike">
                <a:solidFill>
                  <a:srgbClr val="003399"/>
                </a:solidFill>
                <a:latin typeface="Univers 45 Light"/>
              </a:rPr>
              <a:t>(1) Assessment</a:t>
            </a: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31840" y="1747800"/>
            <a:ext cx="7639200" cy="38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Identify enterprise’s key issues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Evaluate the financial instruments used by the enterprise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Identify any off-balance sheet instruments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Analyse usage of financial instruments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Classification of all financial instruments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Derivatives usage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Perform an “inventory” of all derivatives including embedded derivatives (both on and off balance sheet)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Determine whether embedded derivatives must be separated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Review internal / treasury hedging practices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Univers 45 Light"/>
              </a:rPr>
              <a:t>IAS 39 implementation: </a:t>
            </a:r>
            <a:br>
              <a:rPr sz="2600"/>
            </a:br>
            <a:r>
              <a:rPr b="0" i="1" lang="en-US" sz="2600" spc="-1" strike="noStrike">
                <a:solidFill>
                  <a:srgbClr val="003399"/>
                </a:solidFill>
                <a:latin typeface="Univers 45 Light"/>
              </a:rPr>
              <a:t>(2) Assessment</a:t>
            </a: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31840" y="1747440"/>
            <a:ext cx="7639200" cy="38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30120" indent="-330120">
              <a:lnSpc>
                <a:spcPct val="8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Review current business processes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marL="330120" indent="-330120">
              <a:lnSpc>
                <a:spcPct val="8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Decision making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1" marL="650880" indent="-206280">
              <a:lnSpc>
                <a:spcPct val="8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Will the enterprise have HTM investments?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1" marL="650880" indent="-206280">
              <a:lnSpc>
                <a:spcPct val="8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Does the enterprise plan to use hedge accounting?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1" marL="650880" indent="-206280">
              <a:lnSpc>
                <a:spcPct val="8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Identify alternatives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2" marL="922320" indent="-157320">
              <a:lnSpc>
                <a:spcPct val="80000"/>
              </a:lnSpc>
              <a:buClr>
                <a:srgbClr val="000000"/>
              </a:buClr>
              <a:buFont typeface="Univers 55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Univers 55"/>
              </a:rPr>
              <a:t>Assess P&amp;L impact</a:t>
            </a:r>
            <a:endParaRPr b="0" i="1" lang="en-US" sz="2000" spc="-1" strike="noStrike">
              <a:solidFill>
                <a:srgbClr val="000000"/>
              </a:solidFill>
              <a:latin typeface="Univers 55"/>
            </a:endParaRPr>
          </a:p>
          <a:p>
            <a:pPr marL="330120" indent="-330120">
              <a:lnSpc>
                <a:spcPct val="8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Review current IT systems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1" marL="650880" indent="-206280">
              <a:lnSpc>
                <a:spcPct val="8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Can systems support: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2" marL="922320" indent="-157320">
              <a:lnSpc>
                <a:spcPct val="80000"/>
              </a:lnSpc>
              <a:buClr>
                <a:srgbClr val="000000"/>
              </a:buClr>
              <a:buFont typeface="Univers 55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Univers 55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Univers 55"/>
              </a:rPr>
              <a:t>fair value calculations </a:t>
            </a:r>
            <a:endParaRPr b="0" i="1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2" marL="922320" indent="-157320">
              <a:lnSpc>
                <a:spcPct val="80000"/>
              </a:lnSpc>
              <a:buClr>
                <a:srgbClr val="000000"/>
              </a:buClr>
              <a:buFont typeface="Univers 55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Univers 55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Univers 55"/>
              </a:rPr>
              <a:t>amortised cost calculations</a:t>
            </a:r>
            <a:endParaRPr b="0" i="1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2" marL="922320" indent="-157320">
              <a:lnSpc>
                <a:spcPct val="80000"/>
              </a:lnSpc>
              <a:buClr>
                <a:srgbClr val="000000"/>
              </a:buClr>
              <a:buFont typeface="Univers 55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Univers 55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Univers 55"/>
              </a:rPr>
              <a:t>impairment assessments</a:t>
            </a:r>
            <a:endParaRPr b="0" i="1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2" marL="922320" indent="-157320">
              <a:lnSpc>
                <a:spcPct val="80000"/>
              </a:lnSpc>
              <a:buClr>
                <a:srgbClr val="000000"/>
              </a:buClr>
              <a:buFont typeface="Univers 55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Univers 55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Univers 55"/>
              </a:rPr>
              <a:t>NPV of expected cash flows information </a:t>
            </a:r>
            <a:endParaRPr b="0" i="1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1" marL="650880" indent="-206280">
              <a:lnSpc>
                <a:spcPct val="8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Identify “gaps” 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2" marL="922320" indent="0">
              <a:lnSpc>
                <a:spcPct val="80000"/>
              </a:lnSpc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2000" spc="-1" strike="noStrike">
              <a:solidFill>
                <a:srgbClr val="000000"/>
              </a:solidFill>
              <a:latin typeface="Univers 55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Univers 45 Light"/>
              </a:rPr>
              <a:t>IAS 39 implementation: </a:t>
            </a:r>
            <a:br>
              <a:rPr sz="2600"/>
            </a:br>
            <a:r>
              <a:rPr b="0" i="1" lang="en-US" sz="2600" spc="-1" strike="noStrike">
                <a:solidFill>
                  <a:srgbClr val="003399"/>
                </a:solidFill>
                <a:latin typeface="Univers 45 Light"/>
              </a:rPr>
              <a:t>Design</a:t>
            </a: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31840" y="1747440"/>
            <a:ext cx="7639200" cy="366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Produce IT specifications 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Workarounds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Enhancements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Draft new business and accounting policies and procedures (where necessary)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To support hedging decisions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For consistent accounting for financial instruments enterprise-wide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For financial reporting requirements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Documentation of hedge relationships i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Univers 45 Light"/>
              </a:rPr>
              <a:t>critical</a:t>
            </a: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 by adoption date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01T14:39:38Z</dcterms:created>
  <dc:creator>ICT</dc:creator>
  <dc:description>SEPTEMBER 1999 Release candidate 2.0</dc:description>
  <dc:language>en-US</dc:language>
  <cp:lastModifiedBy>KPMG</cp:lastModifiedBy>
  <cp:lastPrinted>2000-05-24T16:39:45Z</cp:lastPrinted>
  <dcterms:modified xsi:type="dcterms:W3CDTF">2001-05-24T10:21:44Z</dcterms:modified>
  <cp:revision>276</cp:revision>
  <dc:subject>KIS2 compliant template </dc:subject>
  <dc:title>KPMG Blank Presentation Template</dc:title>
</cp:coreProperties>
</file>